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740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9520" y="121932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740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9520" y="3900240"/>
            <a:ext cx="2697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65280"/>
            <a:ext cx="8702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7560" y="390024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560" y="1219320"/>
            <a:ext cx="4087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00240"/>
            <a:ext cx="83772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65280"/>
            <a:ext cx="870264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77200" cy="51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buClr>
                <a:srgbClr val="0099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0680">
              <a:buClr>
                <a:srgbClr val="0099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buClr>
                <a:srgbClr val="0099ff"/>
              </a:buClr>
              <a:buSzPct val="9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2160" indent="-233280">
              <a:buClr>
                <a:srgbClr val="0099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6960" indent="-217440">
              <a:buClr>
                <a:srgbClr val="0099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6960" indent="-217440"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6960" indent="-217440"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54080" y="17784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847880" y="1900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54080" y="17784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847880" y="19008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6920" y="1049400"/>
            <a:ext cx="4104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Lucida Sans Unicode"/>
              </a:rPr>
              <a:t>IBM Resear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876320" y="4133880"/>
            <a:ext cx="0" cy="137304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871640" y="104616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1440" y="2277720"/>
            <a:ext cx="81183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hyperlink" Target="http://domino.research.ibm.com/comm/pr.nsf/pages/rscd.bluegene-picai.html/$FILE/bluegene.JPG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loud"/>
          <p:cNvSpPr/>
          <p:nvPr/>
        </p:nvSpPr>
        <p:spPr>
          <a:xfrm rot="2188800">
            <a:off x="5624640" y="2894040"/>
            <a:ext cx="2414520" cy="2719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04920"/>
            <a:ext cx="4496040" cy="2697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63880" y="2286000"/>
            <a:ext cx="1836720" cy="507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2362320"/>
            <a:ext cx="175248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ourc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/>
          <p:nvPr/>
        </p:nvCxnSpPr>
        <p:spPr>
          <a:xfrm flipV="1" rot="10800000">
            <a:off x="4876200" y="1773000"/>
            <a:ext cx="1372320" cy="691200"/>
          </a:xfrm>
          <a:prstGeom prst="curvedConnector5">
            <a:avLst>
              <a:gd name="adj1" fmla="val 49986"/>
              <a:gd name="adj2" fmla="val 49973"/>
              <a:gd name="adj3" fmla="val 49986"/>
            </a:avLst>
          </a:prstGeom>
          <a:ln w="1260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192480" y="555480"/>
            <a:ext cx="19843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Enterprise Resourc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78480" y="339840"/>
            <a:ext cx="838080" cy="501480"/>
          </a:xfrm>
          <a:prstGeom prst="flowChartMultidocument">
            <a:avLst/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 rot="5400000">
            <a:off x="4562280" y="923040"/>
            <a:ext cx="1496160" cy="1173960"/>
          </a:xfrm>
          <a:prstGeom prst="curvedConnector5">
            <a:avLst>
              <a:gd name="adj1" fmla="val 51287"/>
              <a:gd name="adj2" fmla="val 50000"/>
              <a:gd name="adj3" fmla="val 51287"/>
            </a:avLst>
          </a:prstGeom>
          <a:ln w="12600">
            <a:solidFill>
              <a:srgbClr val="99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400440" y="152280"/>
            <a:ext cx="152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tom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b 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048120"/>
            <a:ext cx="1074600" cy="718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59160" y="262080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Provider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838080" y="1676520"/>
            <a:ext cx="1599840" cy="931320"/>
            <a:chOff x="838080" y="1676520"/>
            <a:chExt cx="1599840" cy="931320"/>
          </a:xfrm>
        </p:grpSpPr>
        <p:pic>
          <p:nvPicPr>
            <p:cNvPr id="94" name="Picture 31" descr=""/>
            <p:cNvPicPr/>
            <p:nvPr/>
          </p:nvPicPr>
          <p:blipFill>
            <a:blip r:embed="rId1"/>
            <a:stretch/>
          </p:blipFill>
          <p:spPr>
            <a:xfrm>
              <a:off x="838080" y="1676520"/>
              <a:ext cx="62316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2" descr=""/>
            <p:cNvPicPr/>
            <p:nvPr/>
          </p:nvPicPr>
          <p:blipFill>
            <a:blip r:embed="rId2"/>
            <a:stretch/>
          </p:blipFill>
          <p:spPr>
            <a:xfrm>
              <a:off x="1331640" y="1712880"/>
              <a:ext cx="62316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3" descr=""/>
            <p:cNvPicPr/>
            <p:nvPr/>
          </p:nvPicPr>
          <p:blipFill>
            <a:blip r:embed="rId3"/>
            <a:stretch/>
          </p:blipFill>
          <p:spPr>
            <a:xfrm>
              <a:off x="1814400" y="1729800"/>
              <a:ext cx="62352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Cloud"/>
          <p:cNvSpPr/>
          <p:nvPr/>
        </p:nvSpPr>
        <p:spPr>
          <a:xfrm rot="21034200">
            <a:off x="243000" y="3656160"/>
            <a:ext cx="2720880" cy="2058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230640"/>
            <a:ext cx="27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Provid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520" y="3048120"/>
            <a:ext cx="1218960" cy="88092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Blue Gene/L supercomputer #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7880" y="4138560"/>
            <a:ext cx="1828800" cy="1135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295280" y="533520"/>
            <a:ext cx="2049480" cy="949320"/>
            <a:chOff x="1295280" y="533520"/>
            <a:chExt cx="2049480" cy="949320"/>
          </a:xfrm>
        </p:grpSpPr>
        <p:pic>
          <p:nvPicPr>
            <p:cNvPr id="102" name="Picture 31" descr=""/>
            <p:cNvPicPr/>
            <p:nvPr/>
          </p:nvPicPr>
          <p:blipFill>
            <a:blip r:embed="rId6"/>
            <a:stretch/>
          </p:blipFill>
          <p:spPr>
            <a:xfrm>
              <a:off x="1295280" y="533520"/>
              <a:ext cx="623880" cy="8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1" descr=""/>
            <p:cNvPicPr/>
            <p:nvPr/>
          </p:nvPicPr>
          <p:blipFill>
            <a:blip r:embed="rId7"/>
            <a:stretch/>
          </p:blipFill>
          <p:spPr>
            <a:xfrm>
              <a:off x="1744560" y="550800"/>
              <a:ext cx="62388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2" descr=""/>
            <p:cNvPicPr/>
            <p:nvPr/>
          </p:nvPicPr>
          <p:blipFill>
            <a:blip r:embed="rId8"/>
            <a:stretch/>
          </p:blipFill>
          <p:spPr>
            <a:xfrm>
              <a:off x="2238120" y="585720"/>
              <a:ext cx="6238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3" descr=""/>
            <p:cNvPicPr/>
            <p:nvPr/>
          </p:nvPicPr>
          <p:blipFill>
            <a:blip r:embed="rId9"/>
            <a:stretch/>
          </p:blipFill>
          <p:spPr>
            <a:xfrm>
              <a:off x="2720880" y="604800"/>
              <a:ext cx="62388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7086600" y="137160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632920" y="3054600"/>
            <a:ext cx="2245320" cy="2298600"/>
            <a:chOff x="5632920" y="3054600"/>
            <a:chExt cx="2245320" cy="2298600"/>
          </a:xfrm>
        </p:grpSpPr>
        <p:sp>
          <p:nvSpPr>
            <p:cNvPr id="108" name=""/>
            <p:cNvSpPr/>
            <p:nvPr/>
          </p:nvSpPr>
          <p:spPr>
            <a:xfrm rot="20015400">
              <a:off x="5943600" y="3554280"/>
              <a:ext cx="1066680" cy="1647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070760" y="3414600"/>
              <a:ext cx="807480" cy="759960"/>
              <a:chOff x="7070760" y="3414600"/>
              <a:chExt cx="807480" cy="759960"/>
            </a:xfrm>
          </p:grpSpPr>
          <p:sp>
            <p:nvSpPr>
              <p:cNvPr id="110" name="tower"/>
              <p:cNvSpPr/>
              <p:nvPr/>
            </p:nvSpPr>
            <p:spPr>
              <a:xfrm>
                <a:off x="7070760" y="3414600"/>
                <a:ext cx="502920" cy="40752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ower"/>
              <p:cNvSpPr/>
              <p:nvPr/>
            </p:nvSpPr>
            <p:spPr>
              <a:xfrm>
                <a:off x="7223040" y="3557880"/>
                <a:ext cx="504360" cy="47160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ower"/>
              <p:cNvSpPr/>
              <p:nvPr/>
            </p:nvSpPr>
            <p:spPr>
              <a:xfrm>
                <a:off x="7375320" y="3701160"/>
                <a:ext cx="502920" cy="47340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072120" y="3736800"/>
              <a:ext cx="533520" cy="466560"/>
              <a:chOff x="6072120" y="3736800"/>
              <a:chExt cx="533520" cy="466560"/>
            </a:xfrm>
          </p:grpSpPr>
          <p:sp>
            <p:nvSpPr>
              <p:cNvPr id="114" name="tower"/>
              <p:cNvSpPr/>
              <p:nvPr/>
            </p:nvSpPr>
            <p:spPr>
              <a:xfrm>
                <a:off x="6072120" y="3736800"/>
                <a:ext cx="22860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ower"/>
              <p:cNvSpPr/>
              <p:nvPr/>
            </p:nvSpPr>
            <p:spPr>
              <a:xfrm>
                <a:off x="6224400" y="3808080"/>
                <a:ext cx="22860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ower"/>
              <p:cNvSpPr/>
              <p:nvPr/>
            </p:nvSpPr>
            <p:spPr>
              <a:xfrm>
                <a:off x="6377040" y="3879720"/>
                <a:ext cx="22860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148440" y="4167000"/>
              <a:ext cx="532800" cy="466560"/>
              <a:chOff x="6148440" y="4167000"/>
              <a:chExt cx="532800" cy="466560"/>
            </a:xfrm>
          </p:grpSpPr>
          <p:sp>
            <p:nvSpPr>
              <p:cNvPr id="118" name="tower"/>
              <p:cNvSpPr/>
              <p:nvPr/>
            </p:nvSpPr>
            <p:spPr>
              <a:xfrm>
                <a:off x="6148440" y="4167000"/>
                <a:ext cx="22824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ower"/>
              <p:cNvSpPr/>
              <p:nvPr/>
            </p:nvSpPr>
            <p:spPr>
              <a:xfrm>
                <a:off x="6300360" y="4238280"/>
                <a:ext cx="22824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ower"/>
              <p:cNvSpPr/>
              <p:nvPr/>
            </p:nvSpPr>
            <p:spPr>
              <a:xfrm>
                <a:off x="6453000" y="4309920"/>
                <a:ext cx="228240" cy="32364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595760"/>
              <a:ext cx="533520" cy="468000"/>
              <a:chOff x="6300720" y="4595760"/>
              <a:chExt cx="533520" cy="468000"/>
            </a:xfrm>
          </p:grpSpPr>
          <p:sp>
            <p:nvSpPr>
              <p:cNvPr id="122" name="tower"/>
              <p:cNvSpPr/>
              <p:nvPr/>
            </p:nvSpPr>
            <p:spPr>
              <a:xfrm>
                <a:off x="6300720" y="4595760"/>
                <a:ext cx="228600" cy="32472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ower"/>
              <p:cNvSpPr/>
              <p:nvPr/>
            </p:nvSpPr>
            <p:spPr>
              <a:xfrm>
                <a:off x="6453000" y="4667040"/>
                <a:ext cx="228600" cy="32472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ower"/>
              <p:cNvSpPr/>
              <p:nvPr/>
            </p:nvSpPr>
            <p:spPr>
              <a:xfrm>
                <a:off x="6605640" y="4739040"/>
                <a:ext cx="228600" cy="324720"/>
              </a:xfrm>
              <a:prstGeom prst="pi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7062480" y="4203720"/>
              <a:ext cx="693720" cy="64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308640" y="3414600"/>
              <a:ext cx="83808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32200">
              <a:off x="6156360" y="3200400"/>
              <a:ext cx="1096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rtualiz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73600" y="6462720"/>
            <a:ext cx="2739240" cy="320040"/>
            <a:chOff x="2973600" y="6462720"/>
            <a:chExt cx="2739240" cy="320040"/>
          </a:xfrm>
        </p:grpSpPr>
        <p:sp>
          <p:nvSpPr>
            <p:cNvPr id="129" name=""/>
            <p:cNvSpPr/>
            <p:nvPr/>
          </p:nvSpPr>
          <p:spPr>
            <a:xfrm>
              <a:off x="4038480" y="660564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3600" y="6462720"/>
              <a:ext cx="1072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99160" y="6462720"/>
              <a:ext cx="9136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172200" y="1200240"/>
            <a:ext cx="380880" cy="501480"/>
            <a:chOff x="6172200" y="1200240"/>
            <a:chExt cx="380880" cy="501480"/>
          </a:xfrm>
        </p:grpSpPr>
        <p:sp>
          <p:nvSpPr>
            <p:cNvPr id="133" name=""/>
            <p:cNvSpPr/>
            <p:nvPr/>
          </p:nvSpPr>
          <p:spPr>
            <a:xfrm>
              <a:off x="6355080" y="1333800"/>
              <a:ext cx="0" cy="22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63640" y="1200240"/>
              <a:ext cx="182880" cy="133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172200" y="1378440"/>
              <a:ext cx="182880" cy="8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5080" y="1378440"/>
              <a:ext cx="198000" cy="10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86960" y="155700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5080" y="155700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00800" y="1343160"/>
            <a:ext cx="380880" cy="501480"/>
            <a:chOff x="6400800" y="1343160"/>
            <a:chExt cx="380880" cy="501480"/>
          </a:xfrm>
        </p:grpSpPr>
        <p:sp>
          <p:nvSpPr>
            <p:cNvPr id="140" name=""/>
            <p:cNvSpPr/>
            <p:nvPr/>
          </p:nvSpPr>
          <p:spPr>
            <a:xfrm>
              <a:off x="6583680" y="1476720"/>
              <a:ext cx="0" cy="22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92240" y="1343160"/>
              <a:ext cx="182880" cy="133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400800" y="1521360"/>
              <a:ext cx="182880" cy="8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3680" y="1521360"/>
              <a:ext cx="198000" cy="10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15560" y="169992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3680" y="169992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629400" y="1487520"/>
            <a:ext cx="380880" cy="501480"/>
            <a:chOff x="6629400" y="1487520"/>
            <a:chExt cx="380880" cy="501480"/>
          </a:xfrm>
        </p:grpSpPr>
        <p:sp>
          <p:nvSpPr>
            <p:cNvPr id="147" name=""/>
            <p:cNvSpPr/>
            <p:nvPr/>
          </p:nvSpPr>
          <p:spPr>
            <a:xfrm>
              <a:off x="6812280" y="1621080"/>
              <a:ext cx="0" cy="22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20840" y="1487520"/>
              <a:ext cx="182880" cy="133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1665720"/>
              <a:ext cx="182880" cy="8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2280" y="1665720"/>
              <a:ext cx="198000" cy="10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644160" y="184428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12280" y="1844280"/>
              <a:ext cx="16740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38480" y="4648320"/>
            <a:ext cx="381240" cy="501480"/>
            <a:chOff x="4038480" y="4648320"/>
            <a:chExt cx="381240" cy="501480"/>
          </a:xfrm>
        </p:grpSpPr>
        <p:sp>
          <p:nvSpPr>
            <p:cNvPr id="154" name=""/>
            <p:cNvSpPr/>
            <p:nvPr/>
          </p:nvSpPr>
          <p:spPr>
            <a:xfrm>
              <a:off x="4221360" y="4781880"/>
              <a:ext cx="0" cy="22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29920" y="4648320"/>
              <a:ext cx="182880" cy="133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38480" y="4826520"/>
              <a:ext cx="182880" cy="8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1360" y="4826520"/>
              <a:ext cx="198360" cy="10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053600" y="5005080"/>
              <a:ext cx="1677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1360" y="5005080"/>
              <a:ext cx="1677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0" name=""/>
          <p:cNvCxnSpPr/>
          <p:nvPr/>
        </p:nvCxnSpPr>
        <p:spPr>
          <a:xfrm flipV="1" rot="10800000">
            <a:off x="4419000" y="4495320"/>
            <a:ext cx="114372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</p:cxnSp>
      <p:cxnSp>
        <p:nvCxnSpPr>
          <p:cNvPr id="161" name=""/>
          <p:cNvCxnSpPr/>
          <p:nvPr/>
        </p:nvCxnSpPr>
        <p:spPr>
          <a:xfrm rot="10800000">
            <a:off x="2971080" y="4266360"/>
            <a:ext cx="991440" cy="76284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495680" y="5638680"/>
            <a:ext cx="381240" cy="501840"/>
            <a:chOff x="4495680" y="5638680"/>
            <a:chExt cx="381240" cy="501840"/>
          </a:xfrm>
        </p:grpSpPr>
        <p:sp>
          <p:nvSpPr>
            <p:cNvPr id="163" name=""/>
            <p:cNvSpPr/>
            <p:nvPr/>
          </p:nvSpPr>
          <p:spPr>
            <a:xfrm>
              <a:off x="4678560" y="5772240"/>
              <a:ext cx="0" cy="222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120" y="5638680"/>
              <a:ext cx="182880" cy="133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495680" y="5816880"/>
              <a:ext cx="182880" cy="8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8560" y="5816880"/>
              <a:ext cx="198360" cy="10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10800" y="5995440"/>
              <a:ext cx="167760" cy="14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78560" y="5995440"/>
              <a:ext cx="167760" cy="14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2560" y="54864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6240" y="43434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8320" y="11872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9600" y="654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 flipV="1" rot="10800000">
            <a:off x="4799880" y="5257440"/>
            <a:ext cx="1143720" cy="53424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w="19080">
            <a:solidFill>
              <a:srgbClr val="000000"/>
            </a:solidFill>
            <a:prstDash val="lgDash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7:22:15Z</dcterms:created>
  <dc:creator>samlin@us.ibm.com</dc:creator>
  <dc:description>Blue Onyx Deluxe, Blue Pearl Deluxe:  Generally for "customer-facing" presentations
-  Blue Pearl Deluxe is useful for one-on-one laptop presentations and for easy printing.  Textures on the opening screen carry through the blue bands on text slides.
-  Blue Onyx Deluxe relies heavily on black for maximum contrast, particularly in projection.
Blue Onyx Basic, Blue Pearl Basic:  Intended for basic internal presentations.  May also be used for customers.
-  Blue Onyx Basic uses black throughout for maximum contrast, particularly in projection.
-  Blue Pearl Basic works well for one-on-one laptop presentations and makes printing easy.
</dc:description>
  <dc:language>en-US</dc:language>
  <cp:lastModifiedBy>llfong</cp:lastModifiedBy>
  <dcterms:modified xsi:type="dcterms:W3CDTF">2010-02-13T20:38:48Z</dcterms:modified>
  <cp:revision>1233</cp:revision>
  <dc:subject/>
  <dc:title>IBM Presentations: Blue Pearl DeLuxe template</dc:title>
</cp:coreProperties>
</file>