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69FD7-198F-4CAE-900B-06390C1C65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665280"/>
            <a:ext cx="870264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3772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00240"/>
            <a:ext cx="83772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E9A32-543B-480E-BC76-5FA7D209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665280"/>
            <a:ext cx="870264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878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97560" y="1219320"/>
            <a:ext cx="40878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00240"/>
            <a:ext cx="40878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97560" y="3900240"/>
            <a:ext cx="40878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A56B0-17DD-489E-9D16-3615333C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665280"/>
            <a:ext cx="870264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69712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37400" y="1219320"/>
            <a:ext cx="269712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9520" y="1219320"/>
            <a:ext cx="269712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00240"/>
            <a:ext cx="269712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37400" y="3900240"/>
            <a:ext cx="269712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9520" y="3900240"/>
            <a:ext cx="269712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2AA8B-F950-4BCA-94CE-A8F5135885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665280"/>
            <a:ext cx="870264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377200" cy="51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665280"/>
            <a:ext cx="870264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377200" cy="513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665280"/>
            <a:ext cx="870264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87800" cy="513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7560" y="1219320"/>
            <a:ext cx="4087800" cy="513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665280"/>
            <a:ext cx="870264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79280" y="665280"/>
            <a:ext cx="87026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665280"/>
            <a:ext cx="870264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878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97560" y="1219320"/>
            <a:ext cx="4087800" cy="513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920" y="3900240"/>
            <a:ext cx="40878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665280"/>
            <a:ext cx="870264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377200" cy="51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A6602-B8B0-4974-A9B5-A007DCFB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665280"/>
            <a:ext cx="870264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87800" cy="513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7560" y="1219320"/>
            <a:ext cx="40878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97560" y="3900240"/>
            <a:ext cx="40878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665280"/>
            <a:ext cx="870264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878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7560" y="1219320"/>
            <a:ext cx="40878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4920" y="3900240"/>
            <a:ext cx="83772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665280"/>
            <a:ext cx="870264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3772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4920" y="3900240"/>
            <a:ext cx="83772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665280"/>
            <a:ext cx="870264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878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7560" y="1219320"/>
            <a:ext cx="40878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00240"/>
            <a:ext cx="40878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97560" y="3900240"/>
            <a:ext cx="40878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665280"/>
            <a:ext cx="870264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69712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37400" y="1219320"/>
            <a:ext cx="269712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69520" y="1219320"/>
            <a:ext cx="269712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04920" y="3900240"/>
            <a:ext cx="269712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37400" y="3900240"/>
            <a:ext cx="269712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69520" y="3900240"/>
            <a:ext cx="269712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665280"/>
            <a:ext cx="870264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377200" cy="51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665280"/>
            <a:ext cx="870264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377200" cy="513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65280"/>
            <a:ext cx="870264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87800" cy="513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97560" y="1219320"/>
            <a:ext cx="4087800" cy="513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665280"/>
            <a:ext cx="870264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665280"/>
            <a:ext cx="870264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377200" cy="513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FCA7B-2E29-47D6-BEA5-21A138A8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79280" y="665280"/>
            <a:ext cx="87026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665280"/>
            <a:ext cx="870264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878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97560" y="1219320"/>
            <a:ext cx="4087800" cy="513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4920" y="3900240"/>
            <a:ext cx="40878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665280"/>
            <a:ext cx="870264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87800" cy="513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97560" y="1219320"/>
            <a:ext cx="40878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97560" y="3900240"/>
            <a:ext cx="40878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665280"/>
            <a:ext cx="870264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878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97560" y="1219320"/>
            <a:ext cx="40878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3900240"/>
            <a:ext cx="83772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280" y="665280"/>
            <a:ext cx="870264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3772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4920" y="3900240"/>
            <a:ext cx="83772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665280"/>
            <a:ext cx="870264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878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97560" y="1219320"/>
            <a:ext cx="40878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00240"/>
            <a:ext cx="40878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97560" y="3900240"/>
            <a:ext cx="40878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665280"/>
            <a:ext cx="870264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69712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37400" y="1219320"/>
            <a:ext cx="269712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69520" y="1219320"/>
            <a:ext cx="269712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4920" y="3900240"/>
            <a:ext cx="269712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37400" y="3900240"/>
            <a:ext cx="269712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69520" y="3900240"/>
            <a:ext cx="269712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80" y="665280"/>
            <a:ext cx="870264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377200" cy="51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280" y="665280"/>
            <a:ext cx="870264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377200" cy="513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665280"/>
            <a:ext cx="870264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87800" cy="513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7560" y="1219320"/>
            <a:ext cx="4087800" cy="513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33CF9-D1B3-4309-886C-3DBCBEDA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280" y="665280"/>
            <a:ext cx="870264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87800" cy="513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97560" y="1219320"/>
            <a:ext cx="4087800" cy="513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280" y="665280"/>
            <a:ext cx="870264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79280" y="665280"/>
            <a:ext cx="87026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9280" y="665280"/>
            <a:ext cx="870264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878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97560" y="1219320"/>
            <a:ext cx="4087800" cy="513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04920" y="3900240"/>
            <a:ext cx="40878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280" y="665280"/>
            <a:ext cx="870264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87800" cy="513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97560" y="1219320"/>
            <a:ext cx="40878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97560" y="3900240"/>
            <a:ext cx="40878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280" y="665280"/>
            <a:ext cx="870264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878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97560" y="1219320"/>
            <a:ext cx="40878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04920" y="3900240"/>
            <a:ext cx="83772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280" y="665280"/>
            <a:ext cx="870264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3772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04920" y="3900240"/>
            <a:ext cx="83772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665280"/>
            <a:ext cx="870264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878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97560" y="1219320"/>
            <a:ext cx="40878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4920" y="3900240"/>
            <a:ext cx="40878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97560" y="3900240"/>
            <a:ext cx="40878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280" y="665280"/>
            <a:ext cx="870264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69712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137400" y="1219320"/>
            <a:ext cx="269712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69520" y="1219320"/>
            <a:ext cx="269712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04920" y="3900240"/>
            <a:ext cx="269712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137400" y="3900240"/>
            <a:ext cx="269712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69520" y="3900240"/>
            <a:ext cx="269712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665280"/>
            <a:ext cx="870264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A9880-0780-424D-9915-B31A4CBF5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9280" y="665280"/>
            <a:ext cx="87026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A92A7-3F72-45FF-95C2-D64416604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665280"/>
            <a:ext cx="870264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878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7560" y="1219320"/>
            <a:ext cx="4087800" cy="513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00240"/>
            <a:ext cx="40878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10985-4C1C-4E3B-AAB8-0F22625D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665280"/>
            <a:ext cx="870264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87800" cy="513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7560" y="1219320"/>
            <a:ext cx="40878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97560" y="3900240"/>
            <a:ext cx="40878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2A394-91D8-4788-8787-6FD4560E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665280"/>
            <a:ext cx="870264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878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7560" y="1219320"/>
            <a:ext cx="40878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00240"/>
            <a:ext cx="83772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C450F-445D-4898-800C-EBB97B96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54041" r="0" b="23777"/>
          <a:stretch/>
        </p:blipFill>
        <p:spPr>
          <a:xfrm>
            <a:off x="0" y="6475320"/>
            <a:ext cx="9144000" cy="393840"/>
          </a:xfrm>
          <a:prstGeom prst="rect">
            <a:avLst/>
          </a:prstGeom>
          <a:ln w="3240">
            <a:solidFill>
              <a:srgbClr val="7889fb"/>
            </a:solidFill>
            <a:miter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27010" r="0" b="52127"/>
          <a:stretch/>
        </p:blipFill>
        <p:spPr>
          <a:xfrm>
            <a:off x="1440" y="1440"/>
            <a:ext cx="9144000" cy="381240"/>
          </a:xfrm>
          <a:prstGeom prst="rect">
            <a:avLst/>
          </a:prstGeom>
          <a:ln w="3240">
            <a:solidFill>
              <a:srgbClr val="7889fb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71520" y="61920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66560" y="1457280"/>
            <a:ext cx="808992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5688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1040" indent="-27936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93760" indent="-22860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36840" indent="-22860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36840" indent="-228600">
              <a:spcBef>
                <a:spcPts val="1049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36840" indent="-228600">
              <a:spcBef>
                <a:spcPts val="1049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88920" y="74520"/>
            <a:ext cx="15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IBM Cloud Pa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154080" y="650052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7968-23FE-437A-87B2-DAA105772C96}" type="slidenum">
              <a:rPr b="1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5455800" y="6500520"/>
            <a:ext cx="19465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77CB-7811-4D47-9E7A-3C86EAFDE865}" type="datetime"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990720" y="146160"/>
            <a:ext cx="0" cy="23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720" y="648000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16420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251424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5391000" y="6221520"/>
            <a:ext cx="161928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C815-2345-4302-A44A-D728BDD1DA05}" type="datetime">
              <a:rPr b="0" lang="zh-CN" sz="1300" spc="-1" strike="noStrike">
                <a:solidFill>
                  <a:srgbClr val="ffffff"/>
                </a:solidFill>
                <a:latin typeface="Times New Roman"/>
                <a:ea typeface="宋体"/>
              </a:rPr>
              <a:t>26/7/29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62280" y="1347480"/>
            <a:ext cx="0" cy="328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665280"/>
            <a:ext cx="870264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377200" cy="513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1840" indent="-231840">
              <a:buClr>
                <a:srgbClr val="0099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0680">
              <a:buClr>
                <a:srgbClr val="0099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33280">
              <a:buClr>
                <a:srgbClr val="0099ff"/>
              </a:buClr>
              <a:buSzPct val="9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62160" indent="-233280">
              <a:buClr>
                <a:srgbClr val="0099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6960" indent="-217440">
              <a:buClr>
                <a:srgbClr val="0099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6960" indent="-217440"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6960" indent="-217440"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54080" y="177840"/>
            <a:ext cx="4104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19080" bIns="1908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Lucida Sans Unicode"/>
              </a:rPr>
              <a:t>IBM Researc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847880" y="190080"/>
            <a:ext cx="0" cy="358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54080" y="177840"/>
            <a:ext cx="4104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19080" bIns="1908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Lucida Sans Unicode"/>
              </a:rPr>
              <a:t>IBM Researc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847880" y="190080"/>
            <a:ext cx="0" cy="358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996920" y="1049400"/>
            <a:ext cx="4104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19080" bIns="1908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Lucida Sans Unicode"/>
              </a:rPr>
              <a:t>IBM Researc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876320" y="4133880"/>
            <a:ext cx="0" cy="137304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71640" y="1046160"/>
            <a:ext cx="0" cy="331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31440" y="2277720"/>
            <a:ext cx="811836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429160" y="3505320"/>
            <a:ext cx="2667240" cy="1447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62280" y="762120"/>
            <a:ext cx="2666880" cy="1447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57160" y="4038480"/>
            <a:ext cx="2667240" cy="14479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1886840" y="16764120"/>
            <a:ext cx="838080" cy="1676160"/>
            <a:chOff x="11886840" y="16764120"/>
            <a:chExt cx="838080" cy="1676160"/>
          </a:xfrm>
        </p:grpSpPr>
        <p:sp>
          <p:nvSpPr>
            <p:cNvPr id="173" name=""/>
            <p:cNvSpPr/>
            <p:nvPr/>
          </p:nvSpPr>
          <p:spPr>
            <a:xfrm>
              <a:off x="12289320" y="17210880"/>
              <a:ext cx="0" cy="744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088080" y="16764120"/>
              <a:ext cx="402120" cy="44676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11886840" y="17359920"/>
              <a:ext cx="402120" cy="298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289320" y="17359920"/>
              <a:ext cx="435600" cy="335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11920680" y="17956080"/>
              <a:ext cx="368640" cy="484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2289320" y="17956080"/>
              <a:ext cx="368640" cy="484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 rot="21157200">
            <a:off x="3889800" y="3549240"/>
            <a:ext cx="134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Peer-to-Pe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/>
          <p:nvPr/>
        </p:nvCxnSpPr>
        <p:spPr>
          <a:xfrm>
            <a:off x="3516120" y="4267080"/>
            <a:ext cx="1913400" cy="46800"/>
          </a:xfrm>
          <a:prstGeom prst="curvedConnector5">
            <a:avLst>
              <a:gd name="adj1" fmla="val 49774"/>
              <a:gd name="adj2" fmla="val 49612"/>
              <a:gd name="adj3" fmla="val 49774"/>
            </a:avLst>
          </a:prstGeom>
          <a:ln w="19080">
            <a:solidFill>
              <a:srgbClr val="cc33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81" name=""/>
          <p:cNvCxnSpPr>
            <a:stCxn id="182" idx="3"/>
          </p:cNvCxnSpPr>
          <p:nvPr/>
        </p:nvCxnSpPr>
        <p:spPr>
          <a:xfrm>
            <a:off x="1695600" y="3521160"/>
            <a:ext cx="540000" cy="540000"/>
          </a:xfrm>
          <a:prstGeom prst="curvedConnector3">
            <a:avLst>
              <a:gd name="adj1" fmla="val 25083"/>
            </a:avLst>
          </a:prstGeom>
          <a:ln w="19080">
            <a:solidFill>
              <a:srgbClr val="cc33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183" name=""/>
          <p:cNvSpPr/>
          <p:nvPr/>
        </p:nvSpPr>
        <p:spPr>
          <a:xfrm flipH="1">
            <a:off x="2457360" y="2209680"/>
            <a:ext cx="990720" cy="182880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48280" y="2209680"/>
            <a:ext cx="914400" cy="129564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103440" y="380880"/>
            <a:ext cx="390960" cy="509760"/>
            <a:chOff x="6103440" y="380880"/>
            <a:chExt cx="390960" cy="509760"/>
          </a:xfrm>
        </p:grpSpPr>
        <p:sp>
          <p:nvSpPr>
            <p:cNvPr id="186" name=""/>
            <p:cNvSpPr/>
            <p:nvPr/>
          </p:nvSpPr>
          <p:spPr>
            <a:xfrm>
              <a:off x="6291360" y="516600"/>
              <a:ext cx="0" cy="226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97400" y="380880"/>
              <a:ext cx="187560" cy="1357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6103440" y="561960"/>
              <a:ext cx="187560" cy="9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291360" y="561960"/>
              <a:ext cx="203040" cy="101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6118920" y="743400"/>
              <a:ext cx="171720" cy="147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91360" y="743400"/>
              <a:ext cx="171720" cy="147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2" name=""/>
          <p:cNvCxnSpPr/>
          <p:nvPr/>
        </p:nvCxnSpPr>
        <p:spPr>
          <a:xfrm flipV="1" rot="10800000">
            <a:off x="5471280" y="990720"/>
            <a:ext cx="720000" cy="722520"/>
          </a:xfrm>
          <a:prstGeom prst="curvedConnector5">
            <a:avLst>
              <a:gd name="adj1" fmla="val 49974"/>
              <a:gd name="adj2" fmla="val 50000"/>
              <a:gd name="adj3" fmla="val 49974"/>
            </a:avLst>
          </a:prstGeom>
          <a:ln cap="rnd" w="28440">
            <a:solidFill>
              <a:srgbClr val="996633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 flipV="1">
            <a:off x="3524400" y="3847680"/>
            <a:ext cx="1904760" cy="23652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68640" y="990720"/>
            <a:ext cx="2041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 Domai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64240" y="4983120"/>
            <a:ext cx="2033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mai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42960" y="4267080"/>
            <a:ext cx="1317600" cy="520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sour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rok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648480" y="4572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u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b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38400" y="33526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o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81800">
            <a:off x="4363200" y="43430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o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609120" y="2895480"/>
            <a:ext cx="390960" cy="509760"/>
            <a:chOff x="609120" y="2895480"/>
            <a:chExt cx="390960" cy="509760"/>
          </a:xfrm>
        </p:grpSpPr>
        <p:sp>
          <p:nvSpPr>
            <p:cNvPr id="200" name=""/>
            <p:cNvSpPr/>
            <p:nvPr/>
          </p:nvSpPr>
          <p:spPr>
            <a:xfrm>
              <a:off x="797040" y="3031200"/>
              <a:ext cx="0" cy="226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03080" y="2895480"/>
              <a:ext cx="187560" cy="1357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609120" y="3076560"/>
              <a:ext cx="187560" cy="9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97040" y="3076560"/>
              <a:ext cx="203040" cy="101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624600" y="3258000"/>
              <a:ext cx="171720" cy="147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97040" y="3258000"/>
              <a:ext cx="171720" cy="147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3373560" y="5867280"/>
            <a:ext cx="2739240" cy="320040"/>
            <a:chOff x="3373560" y="5867280"/>
            <a:chExt cx="2739240" cy="320040"/>
          </a:xfrm>
        </p:grpSpPr>
        <p:sp>
          <p:nvSpPr>
            <p:cNvPr id="207" name=""/>
            <p:cNvSpPr/>
            <p:nvPr/>
          </p:nvSpPr>
          <p:spPr>
            <a:xfrm>
              <a:off x="4438440" y="601992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Dot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373560" y="5867280"/>
              <a:ext cx="10724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sum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199120" y="5867280"/>
              <a:ext cx="91368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vi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10" name=""/>
          <p:cNvCxnSpPr/>
          <p:nvPr/>
        </p:nvCxnSpPr>
        <p:spPr>
          <a:xfrm flipV="1" rot="10800000">
            <a:off x="7028640" y="2987280"/>
            <a:ext cx="864360" cy="518400"/>
          </a:xfrm>
          <a:prstGeom prst="curvedConnector2">
            <a:avLst/>
          </a:prstGeom>
          <a:ln w="28440">
            <a:solidFill>
              <a:srgbClr val="996633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211" name=""/>
          <p:cNvSpPr/>
          <p:nvPr/>
        </p:nvSpPr>
        <p:spPr>
          <a:xfrm>
            <a:off x="5735880" y="4495680"/>
            <a:ext cx="20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 Domain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16760" y="2443320"/>
            <a:ext cx="988920" cy="712800"/>
          </a:xfrm>
          <a:prstGeom prst="flowChartMultidocumen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"/>
          <p:cNvCxnSpPr>
            <a:stCxn id="212" idx="2"/>
          </p:cNvCxnSpPr>
          <p:nvPr/>
        </p:nvCxnSpPr>
        <p:spPr>
          <a:xfrm flipH="1" rot="16200000">
            <a:off x="6519960" y="3190680"/>
            <a:ext cx="371160" cy="189360"/>
          </a:xfrm>
          <a:prstGeom prst="curvedConnector3">
            <a:avLst>
              <a:gd name="adj1" fmla="val 36990"/>
            </a:avLst>
          </a:prstGeom>
          <a:ln w="28440">
            <a:solidFill>
              <a:srgbClr val="996633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6018120" y="1828800"/>
            <a:ext cx="181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utomati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ob sub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7857720" y="2514600"/>
            <a:ext cx="390960" cy="509760"/>
            <a:chOff x="7857720" y="2514600"/>
            <a:chExt cx="390960" cy="509760"/>
          </a:xfrm>
        </p:grpSpPr>
        <p:sp>
          <p:nvSpPr>
            <p:cNvPr id="216" name=""/>
            <p:cNvSpPr/>
            <p:nvPr/>
          </p:nvSpPr>
          <p:spPr>
            <a:xfrm>
              <a:off x="8045640" y="2650320"/>
              <a:ext cx="0" cy="226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951680" y="2514600"/>
              <a:ext cx="187560" cy="1357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7857720" y="2695680"/>
              <a:ext cx="187560" cy="9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045640" y="2695680"/>
              <a:ext cx="203040" cy="101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7873200" y="2877120"/>
              <a:ext cx="171720" cy="147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045640" y="2877120"/>
              <a:ext cx="171720" cy="147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8086320" y="2766960"/>
            <a:ext cx="390960" cy="509760"/>
            <a:chOff x="8086320" y="2766960"/>
            <a:chExt cx="390960" cy="509760"/>
          </a:xfrm>
        </p:grpSpPr>
        <p:sp>
          <p:nvSpPr>
            <p:cNvPr id="223" name=""/>
            <p:cNvSpPr/>
            <p:nvPr/>
          </p:nvSpPr>
          <p:spPr>
            <a:xfrm>
              <a:off x="8274240" y="2902680"/>
              <a:ext cx="0" cy="226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80280" y="2766960"/>
              <a:ext cx="187560" cy="1357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8086320" y="2948040"/>
              <a:ext cx="187560" cy="9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274240" y="2948040"/>
              <a:ext cx="203040" cy="101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8101800" y="3129480"/>
              <a:ext cx="171720" cy="147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274240" y="3129480"/>
              <a:ext cx="171720" cy="147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847440" y="3124080"/>
            <a:ext cx="390960" cy="509760"/>
            <a:chOff x="847440" y="3124080"/>
            <a:chExt cx="390960" cy="509760"/>
          </a:xfrm>
        </p:grpSpPr>
        <p:sp>
          <p:nvSpPr>
            <p:cNvPr id="230" name=""/>
            <p:cNvSpPr/>
            <p:nvPr/>
          </p:nvSpPr>
          <p:spPr>
            <a:xfrm>
              <a:off x="1035360" y="3259800"/>
              <a:ext cx="0" cy="226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41400" y="3124080"/>
              <a:ext cx="187560" cy="1357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847440" y="3305160"/>
              <a:ext cx="187560" cy="9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035360" y="3305160"/>
              <a:ext cx="203040" cy="101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862920" y="3486600"/>
              <a:ext cx="171720" cy="147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035360" y="3486600"/>
              <a:ext cx="171720" cy="147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6333840" y="609480"/>
            <a:ext cx="390960" cy="509760"/>
            <a:chOff x="6333840" y="609480"/>
            <a:chExt cx="390960" cy="509760"/>
          </a:xfrm>
        </p:grpSpPr>
        <p:sp>
          <p:nvSpPr>
            <p:cNvPr id="237" name=""/>
            <p:cNvSpPr/>
            <p:nvPr/>
          </p:nvSpPr>
          <p:spPr>
            <a:xfrm>
              <a:off x="6521760" y="745200"/>
              <a:ext cx="0" cy="226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27800" y="609480"/>
              <a:ext cx="187560" cy="13572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6333840" y="790560"/>
              <a:ext cx="187560" cy="9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521760" y="790560"/>
              <a:ext cx="203040" cy="101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6349320" y="972000"/>
              <a:ext cx="171720" cy="147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521760" y="972000"/>
              <a:ext cx="171720" cy="147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6093000" y="3733920"/>
            <a:ext cx="1317600" cy="520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sour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rok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425760" y="1523880"/>
            <a:ext cx="1317600" cy="5202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sour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rok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8T17:22:15Z</dcterms:created>
  <dc:creator>samlin@us.ibm.com</dc:creator>
  <dc:description>Blue Onyx Deluxe, Blue Pearl Deluxe:  Generally for "customer-facing" presentations
-  Blue Pearl Deluxe is useful for one-on-one laptop presentations and for easy printing.  Textures on the opening screen carry through the blue bands on text slides.
-  Blue Onyx Deluxe relies heavily on black for maximum contrast, particularly in projection.
Blue Onyx Basic, Blue Pearl Basic:  Intended for basic internal presentations.  May also be used for customers.
-  Blue Onyx Basic uses black throughout for maximum contrast, particularly in projection.
-  Blue Pearl Basic works well for one-on-one laptop presentations and makes printing easy.
</dc:description>
  <dc:language>en-US</dc:language>
  <cp:lastModifiedBy>llfong</cp:lastModifiedBy>
  <dcterms:modified xsi:type="dcterms:W3CDTF">2010-02-13T22:52:59Z</dcterms:modified>
  <cp:revision>1226</cp:revision>
  <dc:subject/>
  <dc:title>IBM Presentations: Blue Pearl DeLuxe template</dc:title>
</cp:coreProperties>
</file>